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12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85A9-3BF7-4635-9CEB-2543F98F9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3782-E339-4A23-8626-B55A0678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11C0-D333-4C8F-9E64-9B41D5CBC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B741-7C46-44FF-A07A-F292A889A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CFC5-6586-421D-82C2-E764566C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4F86-6FCB-4EF6-981E-7C2493B2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A2B4-A6A9-4F2F-9902-E83EC44C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590D-82C3-472D-AC18-D63D0EF2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4A07-B3AF-41BE-9090-8AA2D9BE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DEEF-06C2-46DE-B35A-D0A8214B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52C4-026A-4A58-9A55-6FB28DCA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3354-D255-438D-BC5A-41FCC63C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9ad4"/>
            </a:gs>
            <a:gs pos="100000">
              <a:srgbClr val="2f12e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C053-A380-408E-8AAE-F0C806F8552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Comic Sans MS"/>
              </a:rPr>
              <a:t>I MOTI CONVETTI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Il materiale che si scalda perché più a contatto con il nucleo, sale verso l’alto e raffreddandosi si appesantisce e forma altra crosta che poi sprofonda di nuovo nel mante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http://t1.gstatic.com/images?q=tbn:ANd9GcQ4zpWvSLC6CRS65oqzg7Nj0Bamm2VKcCvkisNCc-QWjqGP_kYi"/>
          <p:cNvPicPr/>
          <p:nvPr/>
        </p:nvPicPr>
        <p:blipFill>
          <a:blip r:embed="rId1"/>
          <a:stretch/>
        </p:blipFill>
        <p:spPr>
          <a:xfrm>
            <a:off x="2411280" y="2492280"/>
            <a:ext cx="3745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Nonostante questi movimenti siano lentissimi (si notano spostamenti di pochi cm l’anno), essi hanno delle conseguenze sulla superficie terrestre come faglie, terremoti, vulcani e la formazione di montagne (orogene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moti nucleo"/>
          <p:cNvPicPr/>
          <p:nvPr/>
        </p:nvPicPr>
        <p:blipFill>
          <a:blip r:embed="rId1"/>
          <a:stretch/>
        </p:blipFill>
        <p:spPr>
          <a:xfrm>
            <a:off x="1692360" y="2637000"/>
            <a:ext cx="5256000" cy="38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I moti convettivi sono quelle correnti di liquido o di gas che permettono al liquido o al gas in questione di raggiungere la stessa temperatura in tutti i suoi punt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http://www.weatherquestions.com/convection.gif"/>
          <p:cNvPicPr/>
          <p:nvPr/>
        </p:nvPicPr>
        <p:blipFill>
          <a:blip r:embed="rId1"/>
          <a:stretch/>
        </p:blipFill>
        <p:spPr>
          <a:xfrm>
            <a:off x="324000" y="2997360"/>
            <a:ext cx="3743280" cy="280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http://t2.gstatic.com/images?q=tbn:ANd9GcTHmDHl5MDc45xtJqZjofYGXepjfCq_aKMM5LZotrVA01xfYhK_oA"/>
          <p:cNvPicPr/>
          <p:nvPr/>
        </p:nvPicPr>
        <p:blipFill>
          <a:blip r:embed="rId2"/>
          <a:stretch/>
        </p:blipFill>
        <p:spPr>
          <a:xfrm>
            <a:off x="4716360" y="2997360"/>
            <a:ext cx="421956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ffffff"/>
                </a:solidFill>
                <a:latin typeface="Comic Sans MS"/>
              </a:rPr>
              <a:t>Il moto convettivo dei liquid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Osservando una pentola piena d’acqua sul fuoco possiamo osservarne i moti convettivi. che si creano grazie al </a:t>
            </a:r>
            <a:r>
              <a:rPr b="1" lang="it-IT" sz="3200" spc="-1" strike="noStrike">
                <a:solidFill>
                  <a:srgbClr val="ffff00"/>
                </a:solidFill>
                <a:latin typeface="Comic Sans MS"/>
              </a:rPr>
              <a:t>principio di Archimede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http://upload.wikimedia.org/wikipedia/commons/6/60/Principio_di_Archimede_galleggiamento.png"/>
          <p:cNvPicPr/>
          <p:nvPr/>
        </p:nvPicPr>
        <p:blipFill>
          <a:blip r:embed="rId1"/>
          <a:stretch/>
        </p:blipFill>
        <p:spPr>
          <a:xfrm>
            <a:off x="826920" y="3573360"/>
            <a:ext cx="3122640" cy="2602080"/>
          </a:xfrm>
          <a:prstGeom prst="rect">
            <a:avLst/>
          </a:prstGeom>
          <a:ln w="0">
            <a:noFill/>
          </a:ln>
        </p:spPr>
      </p:pic>
      <p:sp>
        <p:nvSpPr>
          <p:cNvPr id="48" name="Rettangolo 6"/>
          <p:cNvSpPr/>
          <p:nvPr/>
        </p:nvSpPr>
        <p:spPr>
          <a:xfrm>
            <a:off x="4140360" y="3573360"/>
            <a:ext cx="4572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Un corpo immerso in un fluido riceve una spinta dal basso verso l'alto F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pari al peso F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Arial"/>
              </a:rPr>
              <a:t>P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del volume V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di fluido spostato </a:t>
            </a:r>
            <a:r>
              <a:rPr b="0" lang="it-IT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124000" y="476280"/>
            <a:ext cx="446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In pratica, sottoposte ad un aumento di temperatura le molecole di acqua che si trovano più vicine al fondo metallico della  pentola aumentano la loro velocità, facendo così il liquido si dilata e diventa quindi più legger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2f2f2"/>
                </a:solidFill>
                <a:latin typeface="Comic Sans MS"/>
              </a:rPr>
              <a:t>A questo punto secondo il principio di Archimede, la parte di liquido in questione sale verso l’alto prendendo così il posto dell’acqua fredda che scende a sua volta verso il fondo della pento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ccia circolare in su 4"/>
          <p:cNvSpPr/>
          <p:nvPr/>
        </p:nvSpPr>
        <p:spPr>
          <a:xfrm rot="10800000">
            <a:off x="6443640" y="404280"/>
            <a:ext cx="2232000" cy="2519640"/>
          </a:xfrm>
          <a:custGeom>
            <a:avLst/>
            <a:gdLst>
              <a:gd name="textAreaLeft" fmla="*/ 348480 w 2232000"/>
              <a:gd name="textAreaRight" fmla="*/ 1604160 w 2232000"/>
              <a:gd name="textAreaTop" fmla="*/ 337320 h 2519640"/>
              <a:gd name="textAreaBottom" fmla="*/ 218232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3239801"/>
                <a:lnTo>
                  <a:pt x="21432" y="4783"/>
                </a:lnTo>
                <a:lnTo>
                  <a:pt x="16200" y="0"/>
                </a:lnTo>
                <a:lnTo>
                  <a:pt x="10632" y="4783"/>
                </a:lnTo>
                <a:lnTo>
                  <a:pt x="13332" y="4783"/>
                </a:lnTo>
                <a:arcTo wR="6750" hR="21600" stAng="2160199" swAng="2773815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solidFill>
            <a:srgbClr val="23e5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Freccia circolare in su 5" descr=""/>
          <p:cNvPicPr/>
          <p:nvPr/>
        </p:nvPicPr>
        <p:blipFill>
          <a:blip r:embed="rId1"/>
          <a:stretch/>
        </p:blipFill>
        <p:spPr>
          <a:xfrm>
            <a:off x="6559560" y="3828960"/>
            <a:ext cx="2266920" cy="2578320"/>
          </a:xfrm>
          <a:prstGeom prst="rect">
            <a:avLst/>
          </a:prstGeom>
          <a:ln w="0">
            <a:noFill/>
          </a:ln>
        </p:spPr>
      </p:pic>
      <p:sp>
        <p:nvSpPr>
          <p:cNvPr id="52" name="Freccia circolare in su 6"/>
          <p:cNvSpPr/>
          <p:nvPr/>
        </p:nvSpPr>
        <p:spPr>
          <a:xfrm>
            <a:off x="179280" y="3789360"/>
            <a:ext cx="2232000" cy="2519280"/>
          </a:xfrm>
          <a:custGeom>
            <a:avLst/>
            <a:gdLst>
              <a:gd name="textAreaLeft" fmla="*/ 348480 w 2232000"/>
              <a:gd name="textAreaRight" fmla="*/ 1604160 w 2232000"/>
              <a:gd name="textAreaTop" fmla="*/ 337320 h 2519280"/>
              <a:gd name="textAreaBottom" fmla="*/ 218196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3239801"/>
                <a:lnTo>
                  <a:pt x="21432" y="4783"/>
                </a:lnTo>
                <a:lnTo>
                  <a:pt x="16200" y="0"/>
                </a:lnTo>
                <a:lnTo>
                  <a:pt x="10632" y="4783"/>
                </a:lnTo>
                <a:lnTo>
                  <a:pt x="13332" y="4783"/>
                </a:lnTo>
                <a:arcTo wR="6750" hR="21600" stAng="2160199" swAng="2773815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Freccia circolare in su 7" descr=""/>
          <p:cNvPicPr/>
          <p:nvPr/>
        </p:nvPicPr>
        <p:blipFill>
          <a:blip r:embed="rId2"/>
          <a:stretch/>
        </p:blipFill>
        <p:spPr>
          <a:xfrm>
            <a:off x="-12600" y="231840"/>
            <a:ext cx="22683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55280" y="76500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2f2f2"/>
                </a:solidFill>
                <a:latin typeface="Comic Sans MS"/>
              </a:rPr>
              <a:t>Questo spostamento da origine a delle correnti dette moti convettiv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magine 5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4721400" cy="4392720"/>
          </a:xfrm>
          <a:prstGeom prst="rect">
            <a:avLst/>
          </a:prstGeom>
          <a:ln w="9360">
            <a:solidFill>
              <a:srgbClr val="808080"/>
            </a:solidFill>
            <a:miter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http://t3.gstatic.com/images?q=tbn:ANd9GcSRorTHg_N9yAtWTUk8tjUCHq6KdYVIrP2PvGDwxZ80e6awJnli"/>
          <p:cNvPicPr/>
          <p:nvPr/>
        </p:nvPicPr>
        <p:blipFill>
          <a:blip r:embed="rId1"/>
          <a:stretch/>
        </p:blipFill>
        <p:spPr>
          <a:xfrm>
            <a:off x="4373640" y="1052640"/>
            <a:ext cx="4770360" cy="3203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ffff00"/>
                </a:solidFill>
                <a:latin typeface="Arial"/>
              </a:rPr>
              <a:t>Perché i laghi ghiaccian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427640" cy="26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2f2f2"/>
                </a:solidFill>
                <a:latin typeface="Comic Sans MS"/>
              </a:rPr>
              <a:t>Ciò che avviene in un lago d’inverno è simile a ciò che avviene in una pentola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http://us.123rf.com/400wm/400/400/jimtan/jimtan1103/jimtan110300010/9112477-mute-cigni-sul-lago-ghiacciato.jpg"/>
          <p:cNvPicPr/>
          <p:nvPr/>
        </p:nvPicPr>
        <p:blipFill>
          <a:blip r:embed="rId2"/>
          <a:stretch/>
        </p:blipFill>
        <p:spPr>
          <a:xfrm>
            <a:off x="0" y="3716280"/>
            <a:ext cx="4317840" cy="3141720"/>
          </a:xfrm>
          <a:prstGeom prst="rect">
            <a:avLst/>
          </a:prstGeom>
          <a:ln w="0">
            <a:noFill/>
          </a:ln>
        </p:spPr>
      </p:pic>
      <p:sp>
        <p:nvSpPr>
          <p:cNvPr id="60" name="Rettangolo 7"/>
          <p:cNvSpPr/>
          <p:nvPr/>
        </p:nvSpPr>
        <p:spPr>
          <a:xfrm>
            <a:off x="4356000" y="4653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2f2f2"/>
                </a:solidFill>
                <a:latin typeface="Comic Sans MS"/>
              </a:rPr>
              <a:t>Il movimento è dato dal raffreddamento dell’acqua che sta in superficie rispetto alla temperatura del fo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896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Lo strato d’acqua in superficie si raffredda diventando così più denso e scendendo sul fondo fino a quando non raggiunge la temperatura di 4°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Esso rimane fermo galleggiando sulla superficie del lago in quanto è reso meno denso di quelli inferiori dal raffreddamento (tra 0 e 4°C la densità dell’acqua diminuisce) mentre il resto dell’acqua rimane a 4°C. Il ghiaccio che si forma impedisce le perdite di calore del lago e ogni altra perdita di calore va a rendere più spessa la lastra senza conseguenze sugli strati più profondi che restano a 4°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In questo modo le forme di vit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presenti nel lago posson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sopravvive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http://www.iii.to.cnr.it/limnol/energia/cinv.gif"/>
          <p:cNvPicPr/>
          <p:nvPr/>
        </p:nvPicPr>
        <p:blipFill>
          <a:blip r:embed="rId1"/>
          <a:stretch/>
        </p:blipFill>
        <p:spPr>
          <a:xfrm>
            <a:off x="4788000" y="3284640"/>
            <a:ext cx="3529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http://www.iii.to.cnr.it/limnol/energia/cpima.gif"/>
          <p:cNvPicPr/>
          <p:nvPr/>
        </p:nvPicPr>
        <p:blipFill>
          <a:blip r:embed="rId1"/>
          <a:stretch/>
        </p:blipFill>
        <p:spPr>
          <a:xfrm>
            <a:off x="5003640" y="981000"/>
            <a:ext cx="3889440" cy="388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4932360" cy="57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Le acque di un lago della regione temperata, alla fine della stagione invernale, presentano a tutte le profondità una uguale temperatura di circa 4°C. Questa è la temperatura di massima densità dell'acqua. L'azione del vento può facilmente provocare un rimescolamento delle acque più superficiali, a contatto con l'atmosfera e quindi contenenti abbondante ossigeno disciolto, con quelle sottostanti. La </a:t>
            </a:r>
            <a:r>
              <a:rPr b="1" lang="it-IT" sz="2200" spc="-1" strike="noStrike">
                <a:solidFill>
                  <a:srgbClr val="ffffff"/>
                </a:solidFill>
                <a:latin typeface="Comic Sans MS"/>
              </a:rPr>
              <a:t>circolazione primaverile</a:t>
            </a: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 che così si instaura ricarica di ossigeno l'intera colonna d'acqu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ffffff"/>
                </a:solidFill>
                <a:latin typeface="Comic Sans MS"/>
              </a:rPr>
              <a:t>I MOTI CONVETTIVI NELLA TER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2818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I moti convettivi interessano anche l’interno del nostro piane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http://www.columbia.edu/itc/ldeo/v1011x-1/jcm/Topic3/convection_animation.gif"/>
          <p:cNvPicPr/>
          <p:nvPr/>
        </p:nvPicPr>
        <p:blipFill>
          <a:blip r:embed="rId1"/>
          <a:stretch/>
        </p:blipFill>
        <p:spPr>
          <a:xfrm>
            <a:off x="4433760" y="2637000"/>
            <a:ext cx="3942000" cy="1008000"/>
          </a:xfrm>
          <a:prstGeom prst="rect">
            <a:avLst/>
          </a:prstGeom>
          <a:ln w="0">
            <a:noFill/>
          </a:ln>
        </p:spPr>
      </p:pic>
      <p:sp>
        <p:nvSpPr>
          <p:cNvPr id="68" name="Rettangolo 7"/>
          <p:cNvSpPr/>
          <p:nvPr/>
        </p:nvSpPr>
        <p:spPr>
          <a:xfrm>
            <a:off x="539640" y="3141720"/>
            <a:ext cx="806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Il magma, infatti, si trova a contatto sia con il nucleo che arriva alla temperatura di 4000 gradi, sia con la crosta terrestre che è più fred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Le correnti convettive che si formano a causa della grande differenza di temperatura tra queste due fonti trascinano il materiale che viene anche chiamato plac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http://t3.gstatic.com/images?q=tbn:ANd9GcTO5jyCyUoHSO4lbTVdUFtqbpC4i84q6DcIN73UBjVdiFbndcAs"/>
          <p:cNvPicPr/>
          <p:nvPr/>
        </p:nvPicPr>
        <p:blipFill>
          <a:blip r:embed="rId2"/>
          <a:stretch/>
        </p:blipFill>
        <p:spPr>
          <a:xfrm>
            <a:off x="468360" y="2637000"/>
            <a:ext cx="39243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5:02:53Z</dcterms:created>
  <dc:creator>User</dc:creator>
  <dc:description/>
  <dc:language>en-US</dc:language>
  <cp:lastModifiedBy>Laura Polenta</cp:lastModifiedBy>
  <dcterms:modified xsi:type="dcterms:W3CDTF">2011-05-10T18:48:49Z</dcterms:modified>
  <cp:revision>29</cp:revision>
  <dc:subject/>
  <dc:title>I MOTI CONVETTIVI</dc:title>
</cp:coreProperties>
</file>